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1781-6DB3-4A1B-97EF-7F27377E6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E89D-F578-4104-9982-1EAA0E294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37F5-C54C-4615-9FDD-02C58F62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F0C-2099-4E5E-BC1D-A91A16EB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3C6-E2F8-488C-89F5-8B312CEB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E85-4CA7-4261-89EE-D3888FA1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CA6-DE3A-4F1F-AA88-07FD829B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D7A1-C728-4726-83F5-D8970294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B6C-8310-4F4B-B9AA-1D1C162D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9085-6AFF-4AEE-B1BF-CBF25A00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0C9-F4A8-4DDD-A05F-2AC169E0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844-083B-453D-9E15-E273BE19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B718-E684-4959-A7A3-E94662E3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0DF2-81A2-4740-AFA2-30A33AA8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0DE1-2FDB-42AF-9454-FADCF8C27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457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viana Peral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Viviana Pera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Viviana Peral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Viviana Peral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Viviana Peral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Ka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Buenos días! Mi nombre es Viviana. Yo vivo en Nueva York. Tengo catorce años. Tengo un hermano meno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shm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666880" y="3886200"/>
            <a:ext cx="518184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uy bien gracias                                                                                                                 Kamal M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666880" y="3200400"/>
            <a:ext cx="51818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Yo estoy bien ¿Y usted?                                                                                                              Rashmi Purplelo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666880" y="251460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Hola como estas?                                                                                                              Kamal Mal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4572000"/>
            <a:ext cx="518184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uando nos podemos ver?                                                                                                Tasin Isl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 pude ahora pero puede ser muy pronto  </a:t>
            </a:r>
            <a:r>
              <a:rPr b="0" lang="en-US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Rashmi Purplelo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666880" y="6019920"/>
            <a:ext cx="51818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a bien. Hasta luego </a:t>
            </a:r>
            <a:r>
              <a:rPr b="0" lang="en-US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Tasin Isl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s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769320" y="609588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h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Happy_smiley_face.png"/>
          <p:cNvPicPr/>
          <p:nvPr/>
        </p:nvPicPr>
        <p:blipFill>
          <a:blip r:embed="rId1"/>
          <a:stretch/>
        </p:blipFill>
        <p:spPr>
          <a:xfrm>
            <a:off x="1905120" y="2590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appy_smiley_face.png"/>
          <p:cNvPicPr/>
          <p:nvPr/>
        </p:nvPicPr>
        <p:blipFill>
          <a:blip r:embed="rId2"/>
          <a:stretch/>
        </p:blipFill>
        <p:spPr>
          <a:xfrm>
            <a:off x="1905120" y="3886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Happy_smiley_face.png"/>
          <p:cNvPicPr/>
          <p:nvPr/>
        </p:nvPicPr>
        <p:blipFill>
          <a:blip r:embed="rId3"/>
          <a:stretch/>
        </p:blipFill>
        <p:spPr>
          <a:xfrm>
            <a:off x="152280" y="4495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appy_smiley_face.png"/>
          <p:cNvPicPr/>
          <p:nvPr/>
        </p:nvPicPr>
        <p:blipFill>
          <a:blip r:embed="rId4"/>
          <a:stretch/>
        </p:blipFill>
        <p:spPr>
          <a:xfrm>
            <a:off x="762120" y="44956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Happy_smiley_face.png"/>
          <p:cNvPicPr/>
          <p:nvPr/>
        </p:nvPicPr>
        <p:blipFill>
          <a:blip r:embed="rId5"/>
          <a:stretch/>
        </p:blipFill>
        <p:spPr>
          <a:xfrm>
            <a:off x="1371600" y="4495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Happy_smiley_face.png"/>
          <p:cNvPicPr/>
          <p:nvPr/>
        </p:nvPicPr>
        <p:blipFill>
          <a:blip r:embed="rId6"/>
          <a:stretch/>
        </p:blipFill>
        <p:spPr>
          <a:xfrm>
            <a:off x="152280" y="5486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Happy_smiley_face.png"/>
          <p:cNvPicPr/>
          <p:nvPr/>
        </p:nvPicPr>
        <p:blipFill>
          <a:blip r:embed="rId7"/>
          <a:stretch/>
        </p:blipFill>
        <p:spPr>
          <a:xfrm>
            <a:off x="762120" y="54864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Happy_smiley_face.png"/>
          <p:cNvPicPr/>
          <p:nvPr/>
        </p:nvPicPr>
        <p:blipFill>
          <a:blip r:embed="rId8"/>
          <a:stretch/>
        </p:blipFill>
        <p:spPr>
          <a:xfrm>
            <a:off x="152280" y="6094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4:29:30Z</dcterms:created>
  <dc:creator>FriscoISD</dc:creator>
  <dc:description/>
  <dc:language>en-US</dc:language>
  <cp:lastModifiedBy>User</cp:lastModifiedBy>
  <dcterms:modified xsi:type="dcterms:W3CDTF">2013-01-02T14:58:05Z</dcterms:modified>
  <cp:revision>104</cp:revision>
  <dc:subject/>
  <dc:title>Profile</dc:title>
</cp:coreProperties>
</file>